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31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9.png" ContentType="image/png"/>
  <Override PartName="/ppt/media/image33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D9D1-423C-4C6D-B971-FDA481654B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5A96-AB79-45DE-B5F3-1872B77F4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77BC-AEE4-4F14-BF39-7524885F8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7C8-6517-41CC-8533-6509DE88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01F-037D-4C23-83B9-C537C193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880-B588-4852-B544-2D4519CC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607-44E4-4911-B556-27492E5E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06D-59FF-4017-A478-B0FCAD19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4A2-EF7C-4A7C-9D59-4A3B7434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EF8-34E4-454F-B389-DB8BD6D7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15E-D330-43C9-8F6A-C0060D82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3B0-BC01-459E-966F-188734B2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59C-F1AA-4138-BE6F-BD20FA8D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A61-9597-4BC7-9738-A396989A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BB3-92A9-4E95-BF84-BDDF196C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2A32-5D21-46B4-BBB9-0CCF79C65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1785600"/>
            <a:ext cx="870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70-летию</a:t>
            </a:r>
            <a:br>
              <a:rPr sz="8800"/>
            </a:b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 Победы посвящается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hapka1"/>
          <p:cNvPicPr/>
          <p:nvPr/>
        </p:nvPicPr>
        <p:blipFill>
          <a:blip r:embed="rId1"/>
          <a:stretch/>
        </p:blipFill>
        <p:spPr>
          <a:xfrm>
            <a:off x="6566040" y="920880"/>
            <a:ext cx="230976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79912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29 июня 1941 года (8-й день войны). Сведения с фронта подтверждают, что русские всюду сражаются до последнего человека... Упорное сопротивление русских заставляет вести бой по всем правилам наших боевых уставов, хотя на Западе мы могли позволить себе известные вольности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195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58760"/>
            <a:ext cx="8713800" cy="65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0 августа 1941 года (50-й день вой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На центральном участке фронта создалась невыгодная для нас обстановка, а на северном фланге мы терпим большие потери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1942_1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1 августа 1941 года (51 – й день вой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Общая обстановка всё очевиднее показывает, что колосс – Россия… был нами недооценён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От Бреста до Москвы 1000 километров, от Москвы до Берлина — 1600. Итого 260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если считать по прямой. Так мало, не правда ли? 2600 километров. Поездом — четверо суток, самолетом — четыре часа, а перебежками по-пластунски — четыре долгих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Война – это 4 года,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1 418 бессонных дней и ночей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20 миллионов погибших русских людей, это значит  22 человека на каждые 2 метра земли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значит 13 человек в каждую минуту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425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Это бесстрашие защитников Бреста, это 900 дней блокадного Ленинграда, это клятва панфиловцев: «Ни шагу назад, за нами Москва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добытая огнем и кровью победа под Сталинградом, это подвиг героев Курской дуги, это штурм Берлина, это память сердца всего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окада Лен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38600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а, мы не скроем: в эти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ели землю, клей, ремн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, съев похлёбку из ремн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тавал к станку упрямый мас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ы точить орудий час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обходимые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Мы помним - 27 января, День полного снятия блокады Ленинграда - Развлекательный портал &quot;Флаг в руки&quot; - Флаг в Руки"/>
          <p:cNvPicPr/>
          <p:nvPr/>
        </p:nvPicPr>
        <p:blipFill>
          <a:blip r:embed="rId1"/>
          <a:stretch/>
        </p:blipFill>
        <p:spPr>
          <a:xfrm>
            <a:off x="642960" y="428760"/>
            <a:ext cx="3714840" cy="271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Героические страницы российской истории"/>
          <p:cNvPicPr/>
          <p:nvPr/>
        </p:nvPicPr>
        <p:blipFill>
          <a:blip r:embed="rId2"/>
          <a:stretch/>
        </p:blipFill>
        <p:spPr>
          <a:xfrm>
            <a:off x="4572000" y="357120"/>
            <a:ext cx="4000680" cy="2954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Блокадный Ленинград"/>
          <p:cNvPicPr/>
          <p:nvPr/>
        </p:nvPicPr>
        <p:blipFill>
          <a:blip r:embed="rId3"/>
          <a:stretch/>
        </p:blipFill>
        <p:spPr>
          <a:xfrm>
            <a:off x="1071720" y="2928960"/>
            <a:ext cx="2651040" cy="370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Блокада Ленинграда в фотографиях"/>
          <p:cNvPicPr/>
          <p:nvPr/>
        </p:nvPicPr>
        <p:blipFill>
          <a:blip r:embed="rId4"/>
          <a:stretch/>
        </p:blipFill>
        <p:spPr>
          <a:xfrm>
            <a:off x="4214880" y="3357720"/>
            <a:ext cx="430380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459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ним мирным днём 1941 года была суббота. После обычной трудовой недели миллионы советских людей отправились отдыхать. Тишину наступившей ночи, по-летнему тёплой, благоухающей, во многих городах и сёлах нарушали счастливые голоса молодых людей, праздновавших своё вступление во взрослую жи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.wav" descr=""/>
          <p:cNvPicPr/>
          <p:nvPr/>
        </p:nvPicPr>
        <p:blipFill>
          <a:blip r:embed="rId1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611280" y="907920"/>
            <a:ext cx="81374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 войны в город по множеству железнодорожных линий и веток каждый день прибывала не одна тысяча вагонов со всякими грузами. Линии передач несли электрическую энергию со станций, расположенных на Волхове, Свири, в верховьях Невы. Теперь все эти пути были перехвачены врагом. Огромный поток грузов сразу исся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вольствие и боеприпасы стали доставлять по воздуху, но это была капля в м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9640" y="33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Война, войн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323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3.wav" descr=""/>
          <p:cNvPicPr/>
          <p:nvPr/>
        </p:nvPicPr>
        <p:blipFill>
          <a:blip r:embed="rId1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79280" y="907920"/>
            <a:ext cx="8569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ли создать новую линию снабжения через Ладожское озеро.Существовал и путь по воде – узкая полоса между вражескими армиями. Прежде этот путь мало использовался.  Ладожское озеро суровое и бурное, судов, пригодных для плаванья по нему было немного. Баржи водили по каналам, в обход озера, но теперь и каналы попали в руки врага. Оставалась Ладога.  Осенью 1941 года начались перевозки через озеро. Потом по нему пролегла знаменитая ледовая трасса – Дорога жизни, которая спасла Ленинград. Но в начале и перевозки по озеру давали ничтожно мало в сравнении с тем, сколько было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23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«Дорога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абжение города и войск удалось наладить по «Дороге жизни» (через Ладожское оз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Кольцо смерти и Дорога жизни &quot; Кумертауское Время"/>
          <p:cNvPicPr/>
          <p:nvPr/>
        </p:nvPicPr>
        <p:blipFill>
          <a:blip r:embed="rId1"/>
          <a:stretch/>
        </p:blipFill>
        <p:spPr>
          <a:xfrm>
            <a:off x="928800" y="100008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Без заголовка 1423"/>
          <p:cNvPicPr/>
          <p:nvPr/>
        </p:nvPicPr>
        <p:blipFill>
          <a:blip r:embed="rId2"/>
          <a:stretch/>
        </p:blipFill>
        <p:spPr>
          <a:xfrm>
            <a:off x="357120" y="3571920"/>
            <a:ext cx="457992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68360" y="333360"/>
            <a:ext cx="795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 было возить больше, много больше, возить быстрее, много быстре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 декабря через озеро перевезли 700 тонн продуктов, 24-го – 800 тонн. Запасов в городе не оставалось. То, что привозили из-за Ладоги, сразу поступало на хлебозаводы.И все-таки вечером 24 декабря военный совет фронта решил увеличить поек всем ленинградцам: рабочим на 100 граммов в день, остальным - на 75 граммов. Многие женщины и дети плакали от радости. Еще 75 граммов хлеба, в общем - то крохотный кусочек, который легко сжать в кулаке. В блокадную пору он был бесценен. Он давал людям надежду на спасение от голодной смерти, на то, что их близкие и они сами будут 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9200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ч   матерей  по  погибш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2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4"/>
          <p:cNvGraphicFramePr/>
          <p:nvPr/>
        </p:nvGraphicFramePr>
        <p:xfrm>
          <a:off x="8748720" y="5877000"/>
          <a:ext cx="3952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48720" y="5877000"/>
                    <a:ext cx="395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68360" y="2133720"/>
            <a:ext cx="80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того и шестого декабря 1941 года уже последовало мощное контрнаступление советских войск. Враг отошел от Москвы на 100 – 25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спиной Моск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а ми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неё, в огне лихих г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ли насмерть братья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н башкира, русский , и татарин, и грузин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, Моск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сердце всей Ро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очей твоих струиться с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ы мы, хоть нас свинцом кос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тебя, Моск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жизни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Отморожение"/>
          <p:cNvPicPr/>
          <p:nvPr/>
        </p:nvPicPr>
        <p:blipFill>
          <a:blip r:embed="rId1"/>
          <a:stretch/>
        </p:blipFill>
        <p:spPr>
          <a:xfrm>
            <a:off x="714240" y="1357200"/>
            <a:ext cx="76201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, всё-таки наступил в войне переломный момент и началось освобождение оккупированных территорий. Очистив от фашистов территорию нашей страны, наши воины освободили от фашистского ига народы Европы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в неоплаченном долгу перед теми миллионами людей, которые погибли, защищая родину от порабощения, неволи, фашизма, грозившего уничтожить все славянские на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79640" y="6237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нградская</a:t>
            </a:r>
            <a:r>
              <a:rPr b="1" lang="ru-RU" sz="2400" spc="-1" strike="noStrike">
                <a:solidFill>
                  <a:srgbClr val="05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09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126828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Новая папка (4)\2007_06_22_08_44_40_a1fd7e74437b5ad9dc504ed2628ffff5.jpg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254560" y="476280"/>
            <a:ext cx="3889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ой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вно в 4 ча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в бомби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й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0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907920"/>
            <a:ext cx="748836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 годы войны фашисты уничтожили 1710 советских городов и более 70 тысяч сел и деревен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Картинка 5 из 7138"/>
          <p:cNvPicPr/>
          <p:nvPr/>
        </p:nvPicPr>
        <p:blipFill>
          <a:blip r:embed="rId1"/>
          <a:stretch/>
        </p:blipFill>
        <p:spPr>
          <a:xfrm>
            <a:off x="2124000" y="0"/>
            <a:ext cx="4457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g42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21413"/>
          <p:cNvPicPr/>
          <p:nvPr/>
        </p:nvPicPr>
        <p:blipFill>
          <a:blip r:embed="rId2"/>
          <a:stretch/>
        </p:blipFill>
        <p:spPr>
          <a:xfrm>
            <a:off x="1511280" y="333360"/>
            <a:ext cx="7632720" cy="5722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55"/>
          <p:cNvPicPr/>
          <p:nvPr/>
        </p:nvPicPr>
        <p:blipFill>
          <a:blip r:embed="rId3"/>
          <a:stretch/>
        </p:blipFill>
        <p:spPr>
          <a:xfrm>
            <a:off x="179280" y="378000"/>
            <a:ext cx="896472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0008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убеже весны четвёр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граду за года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ыму и прахе распростёр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лин лежал у наших ног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молкает гром оруд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шует пламя в дымной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говорят друг другу люди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справедливость на Зем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Бер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i0006r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0012rp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i0006rp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23" name="levitan3.mp3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1000">
    <p:fade/>
  </p:transition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307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КОЛ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ЗНАЮ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8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1268280"/>
            <a:ext cx="761976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война\войнай\Rodina_mat-.jpg"/>
          <p:cNvPicPr/>
          <p:nvPr/>
        </p:nvPicPr>
        <p:blipFill>
          <a:blip r:embed="rId1"/>
          <a:stretch/>
        </p:blipFill>
        <p:spPr>
          <a:xfrm>
            <a:off x="2484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годы войны было сожжено и разрушено 6 млн. зданий. Остались без крова над головой почти 25 млн. человек. Страна потеряла 30% национального богат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сколько людей погибло в концлагер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 лагерь  Саласпил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658"/>
          <p:cNvPicPr/>
          <p:nvPr/>
        </p:nvPicPr>
        <p:blipFill>
          <a:blip r:embed="rId1"/>
          <a:srcRect l="0" t="15427" r="0" b="16253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9"/>
          <p:cNvSpPr/>
          <p:nvPr/>
        </p:nvSpPr>
        <p:spPr>
          <a:xfrm>
            <a:off x="-252360" y="549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 июня 1945 г.  в Москве состоялся Парад Поб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Картинка 3 из 21539"/>
          <p:cNvPicPr/>
          <p:nvPr/>
        </p:nvPicPr>
        <p:blipFill>
          <a:blip r:embed="rId1"/>
          <a:stretch/>
        </p:blipFill>
        <p:spPr>
          <a:xfrm>
            <a:off x="1403280" y="1197000"/>
            <a:ext cx="5616720" cy="536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Картинка 71 из 21539"/>
          <p:cNvPicPr/>
          <p:nvPr/>
        </p:nvPicPr>
        <p:blipFill>
          <a:blip r:embed="rId2"/>
          <a:stretch/>
        </p:blipFill>
        <p:spPr>
          <a:xfrm>
            <a:off x="755640" y="1125360"/>
            <a:ext cx="7885080" cy="547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Картинка 73 из 21539"/>
          <p:cNvPicPr/>
          <p:nvPr/>
        </p:nvPicPr>
        <p:blipFill>
          <a:blip r:embed="rId3"/>
          <a:stretch/>
        </p:blipFill>
        <p:spPr>
          <a:xfrm>
            <a:off x="684360" y="112536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236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мая мы отмечаем великий праздник – День Победы ,70 годовщину Победы советского народа в Великой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горя и страха принесла война, но несмотря на голод, холод, разруху, наш народ победил. Он победил страшного врага, который поработил много государств и заставил их жить в страхе, народ , который победил  - фашиз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levitan3.mp3" descr=""/>
          <p:cNvPicPr/>
          <p:nvPr/>
        </p:nvPicPr>
        <p:blipFill>
          <a:blip r:embed="rId1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307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всей стра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ой оркестр играет мар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сед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х прадедов, дедов. Даже те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не видал войны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её крылом задет был каж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дравляем с Днём Победы мы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день для всей России важ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0_bi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28760" y="1214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вели чёрные крыл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стел ураган свинц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парни границу закр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собственные серд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Пам"/>
          <p:cNvPicPr/>
          <p:nvPr/>
        </p:nvPicPr>
        <p:blipFill>
          <a:blip r:embed="rId1"/>
          <a:stretch/>
        </p:blipFill>
        <p:spPr>
          <a:xfrm>
            <a:off x="4643280" y="0"/>
            <a:ext cx="3781440" cy="5113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57" name="Picture 6" descr="Каска"/>
          <p:cNvPicPr/>
          <p:nvPr/>
        </p:nvPicPr>
        <p:blipFill>
          <a:blip r:embed="rId2"/>
          <a:stretch/>
        </p:blipFill>
        <p:spPr>
          <a:xfrm>
            <a:off x="6407280" y="4781520"/>
            <a:ext cx="2736720" cy="20764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рестская креп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брестская крепость"/>
          <p:cNvPicPr/>
          <p:nvPr/>
        </p:nvPicPr>
        <p:blipFill>
          <a:blip r:embed="rId1"/>
          <a:stretch/>
        </p:blipFill>
        <p:spPr>
          <a:xfrm>
            <a:off x="0" y="1125360"/>
            <a:ext cx="463392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– Брест. Я стою обожжен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бьюсь за солдатскую ч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ету здесь, нету сраже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только убитые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дневника начальника Генерального штаба сухопутных войск фашистской Германии генерал-полковника Гальд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4176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179280" y="4076640"/>
            <a:ext cx="856944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…24 июня 1941 года (3-й день войны). В общем-то, теперь стало ясно, что русские не думают об отступлении, а напротив, бросают все, что имеют в своём распоряжении, навстречу вклинившимся германским войска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25:23Z</dcterms:created>
  <dc:creator>Alex</dc:creator>
  <dc:description/>
  <dc:language>en-US</dc:language>
  <cp:lastModifiedBy>Лада</cp:lastModifiedBy>
  <dcterms:modified xsi:type="dcterms:W3CDTF">2014-11-06T08:12:28Z</dcterms:modified>
  <cp:revision>36</cp:revision>
  <dc:subject/>
  <dc:title>65-летию Победы посвящается…</dc:title>
</cp:coreProperties>
</file>